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26.jpeg" ContentType="image/jpeg"/>
  <Override PartName="/ppt/media/image24.jpeg" ContentType="image/jpeg"/>
  <Override PartName="/ppt/media/image22.png" ContentType="image/png"/>
  <Override PartName="/ppt/media/image21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5788-DE77-4355-A04E-A6DE6C218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C39C-E023-461F-9976-51A13482D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84D4-B298-4AEE-9F81-14C596F42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D4D2-4B51-4EBC-8BCD-2C7061497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E54-35C9-484C-B48A-9E3943A8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58C4-70B0-473F-A555-A8DB00EED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DCC1-DF66-4472-8807-3FE53843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2203-1961-487F-A383-AE6C7A38A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B181-F170-48D3-B68B-3365BB83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2AF8-B419-4EA8-83A9-D767CDE1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EBB0-7036-47B6-8B8E-3EF98730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340E-6972-4622-92BE-9B22D782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89931-02C3-4ADD-AEFA-62FE44417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05120" y="609480"/>
            <a:ext cx="3897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Р</a:t>
            </a:r>
            <a:r>
              <a:rPr b="0" lang="bg-BG" sz="3600" spc="-1" strike="noStrike">
                <a:solidFill>
                  <a:srgbClr val="ccecff"/>
                </a:solidFill>
                <a:latin typeface="Tahoma"/>
              </a:rPr>
              <a:t>имляни 1:16,1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76320" y="1447920"/>
            <a:ext cx="9220320" cy="551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щото не се срамувам от благовестиет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понеже е Божия сила за спас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на всекиго, който вярва …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ащото в него се открив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правдата, която е от Бо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чрез вяра към вяр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както е писан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400" spc="-1" strike="noStrike">
                <a:solidFill>
                  <a:srgbClr val="ffff99"/>
                </a:solidFill>
                <a:latin typeface="Tahoma"/>
              </a:rPr>
              <a:t>“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Праведния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	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	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	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чрез вя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	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	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	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	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	</a:t>
            </a:r>
            <a:r>
              <a:rPr b="0" i="1" lang="bg-BG" sz="4400" spc="-1" strike="noStrike" u="sng">
                <a:solidFill>
                  <a:srgbClr val="ffff99"/>
                </a:solidFill>
                <a:uFillTx/>
                <a:latin typeface="Tahoma"/>
              </a:rPr>
              <a:t>ще живее”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968400" y="934920"/>
            <a:ext cx="55422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99"/>
                </a:solidFill>
                <a:latin typeface="Tahoma"/>
              </a:rPr>
              <a:t>Праведността, която Бог 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62160" y="1785960"/>
            <a:ext cx="788184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-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предвидял и изявил преди да           основе свет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</a:t>
            </a:r>
            <a:r>
              <a:rPr b="0" lang="bg-BG" sz="3200" spc="-1" strike="noStrike">
                <a:solidFill>
                  <a:srgbClr val="ccecff"/>
                </a:solidFill>
                <a:latin typeface="Tahoma"/>
              </a:rPr>
              <a:t>ф. 1:4; Откр. 13: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3214800"/>
            <a:ext cx="7925040" cy="113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- обещал по време на грехопадението на нашит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прародители.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ccecff"/>
                </a:solidFill>
                <a:latin typeface="Tahoma"/>
              </a:rPr>
              <a:t>Бит. 3: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4648320"/>
            <a:ext cx="77882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- въплътил в живота и смъртта на Исус Христос. </a:t>
            </a:r>
            <a:r>
              <a:rPr b="0" lang="bg-BG" sz="3200" spc="-1" strike="noStrike">
                <a:solidFill>
                  <a:srgbClr val="ccecff"/>
                </a:solidFill>
                <a:latin typeface="Tahoma"/>
              </a:rPr>
              <a:t>Ин. 3:16,17; Гал. 4:4,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0920" y="838080"/>
            <a:ext cx="5914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Това е Божия праведнос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14440" y="1785960"/>
            <a:ext cx="7729560" cy="164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ffffcc"/>
                </a:solidFill>
                <a:latin typeface="Tahoma"/>
              </a:rPr>
              <a:t>И така, ние заключаваме, че човек се оправдава чрез вяра, без делата на закона. </a:t>
            </a:r>
            <a:r>
              <a:rPr b="0" lang="bg-BG" sz="3400" spc="-1" strike="noStrike">
                <a:solidFill>
                  <a:srgbClr val="ccecff"/>
                </a:solidFill>
                <a:latin typeface="Tahoma"/>
              </a:rPr>
              <a:t>Рим. 3:28;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3276720"/>
            <a:ext cx="7924680" cy="268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400" spc="-1" strike="noStrike">
                <a:solidFill>
                  <a:srgbClr val="ffffcc"/>
                </a:solidFill>
                <a:latin typeface="Tahoma"/>
              </a:rPr>
              <a:t>Човек не се оправдава чрез дела по закона, а само чрез вяра в Исуса Христа, а не чрез дела по закона; защото чрез дела по закона няма да се оправдае никоя твар. </a:t>
            </a:r>
            <a:r>
              <a:rPr b="0" lang="bg-BG" sz="3400" spc="-1" strike="noStrike">
                <a:solidFill>
                  <a:srgbClr val="ccecff"/>
                </a:solidFill>
                <a:latin typeface="Tahoma"/>
              </a:rPr>
              <a:t>Гал. 2:16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920160" y="838080"/>
            <a:ext cx="5702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Три тягостни реалности</a:t>
            </a:r>
            <a:r>
              <a:rPr b="0" lang="bg-BG" sz="3600" spc="-1" strike="noStrike">
                <a:solidFill>
                  <a:srgbClr val="ccecff"/>
                </a:solidFill>
                <a:latin typeface="Tahom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4440" y="1785960"/>
            <a:ext cx="7729560" cy="454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а) вината и наказанието за греха - това е нашето оправдание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б) силата и робството на греха - това е нашето освещени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) природата и присъствието на греха - това е нашето прославян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76320"/>
            <a:ext cx="9372600" cy="116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500" spc="-1" strike="noStrike">
                <a:solidFill>
                  <a:srgbClr val="ffff99"/>
                </a:solidFill>
                <a:latin typeface="Tahoma"/>
              </a:rPr>
              <a:t>ОПРАВДАНИЕ, ОСВЕЩЕНИЕ И ПРОСЛАВЯНЕ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28960" y="6149880"/>
            <a:ext cx="9605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Т</a:t>
            </a: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РИУМФ НА БОЖИЯТА НЕОБЯТНА ЛЮБ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914400"/>
            <a:ext cx="6324480" cy="557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щото, които предузна тях и предопредели да бъдат съобразни с образа на Сина Му,… а които предопредели, тях и призова; а които призова, тях и оправда, а които оправда, тях и прослав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324480" y="545472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ahoma"/>
              </a:rPr>
              <a:t>Р</a:t>
            </a:r>
            <a:r>
              <a:rPr b="0" lang="bg-BG" sz="3600" spc="-1" strike="noStrike">
                <a:solidFill>
                  <a:srgbClr val="ccecff"/>
                </a:solidFill>
                <a:latin typeface="Tahoma"/>
              </a:rPr>
              <a:t>им. 8:29,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191120" y="1066680"/>
            <a:ext cx="533160" cy="541044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2362320"/>
            <a:ext cx="3733560" cy="4572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62120" y="762120"/>
            <a:ext cx="7619760" cy="5410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767241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Arial Black"/>
              </a:rPr>
              <a:t>Две страни на спасениет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Arial Black"/>
              <a:ea typeface="Arial Black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495680" y="0"/>
            <a:ext cx="76320" cy="685800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057400"/>
            <a:ext cx="9220320" cy="76320"/>
          </a:xfrm>
          <a:prstGeom prst="rect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295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   “</a:t>
            </a: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ВИЕ В ХРИСТА”</a:t>
            </a:r>
            <a:r>
              <a:rPr b="0" lang="bg-BG" sz="36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“ХРИСТОС ВЪВ ВАС”</a:t>
            </a:r>
            <a:r>
              <a:rPr b="0" lang="bg-BG" sz="3200" spc="-1" strike="noStrike">
                <a:solidFill>
                  <a:srgbClr val="ffccff"/>
                </a:solidFill>
                <a:latin typeface="Tahoma"/>
              </a:rPr>
              <a:t> </a:t>
            </a:r>
            <a:r>
              <a:rPr b="0" lang="bg-BG" sz="3200" spc="-1" strike="noStrike">
                <a:solidFill>
                  <a:srgbClr val="ffff99"/>
                </a:solidFill>
                <a:latin typeface="Tahoma"/>
              </a:rPr>
              <a:t>обективно евангелие</a:t>
            </a:r>
            <a:r>
              <a:rPr b="0" lang="bg-BG" sz="3200" spc="-1" strike="noStrike">
                <a:solidFill>
                  <a:srgbClr val="ffff66"/>
                </a:solidFill>
                <a:latin typeface="Tahoma"/>
              </a:rPr>
              <a:t>    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субективно евангелие </a:t>
            </a:r>
            <a:r>
              <a:rPr b="0" lang="bg-BG" sz="2000" spc="-1" strike="noStrike">
                <a:solidFill>
                  <a:srgbClr val="ffff99"/>
                </a:solidFill>
                <a:latin typeface="Tahoma"/>
              </a:rPr>
              <a:t>1 Кор.1:30,31 Еф.1:3-6,2:13; Фил.3:9</a:t>
            </a:r>
            <a:r>
              <a:rPr b="0" lang="bg-BG" sz="2000" spc="-1" strike="noStrike">
                <a:solidFill>
                  <a:srgbClr val="ffccff"/>
                </a:solidFill>
                <a:latin typeface="Tahoma"/>
              </a:rPr>
              <a:t>     </a:t>
            </a:r>
            <a:r>
              <a:rPr b="0" lang="bg-BG" sz="2000" spc="-1" strike="noStrike">
                <a:solidFill>
                  <a:srgbClr val="ffffcc"/>
                </a:solidFill>
                <a:latin typeface="Tahoma"/>
              </a:rPr>
              <a:t>Рим.8:10;Гал.2:20;Еф.3:17;Кол.1: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ccff"/>
                </a:solidFill>
                <a:latin typeface="Tahoma"/>
              </a:rPr>
              <a:t>  </a:t>
            </a:r>
            <a:r>
              <a:rPr b="0" lang="bg-BG" sz="3200" spc="-1" strike="noStrike">
                <a:solidFill>
                  <a:srgbClr val="ffff99"/>
                </a:solidFill>
                <a:latin typeface="Tahoma"/>
              </a:rPr>
              <a:t>вменена праведност</a:t>
            </a:r>
            <a:r>
              <a:rPr b="0" lang="bg-BG" sz="3200" spc="-1" strike="noStrike">
                <a:solidFill>
                  <a:srgbClr val="ffccff"/>
                </a:solidFill>
                <a:latin typeface="Tahoma"/>
              </a:rPr>
              <a:t>   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придадена праведнос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057400"/>
            <a:ext cx="91440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  </a:t>
            </a: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Завършено дело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    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е завършено дел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Tahoma"/>
              </a:rPr>
              <a:t>1 Кор.6:11; Еф. 1:3; Кол. 2:10</a:t>
            </a: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  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Рим.5:3-5; 8:18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1Кор.15:51-5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429000"/>
            <a:ext cx="9372600" cy="137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     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У</a:t>
            </a: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ниверсално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 Персонално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Tahoma"/>
              </a:rPr>
              <a:t>Рим.5:18;2Кор.5:18,19;1Ин.2:2.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 Рим.8:9,10;2Кор.3:17,18;6:14-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556160"/>
            <a:ext cx="9144000" cy="100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        </a:t>
            </a: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Вън от нас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ътре в нас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Tahoma"/>
              </a:rPr>
              <a:t>     </a:t>
            </a:r>
            <a:r>
              <a:rPr b="0" lang="bg-BG" sz="2400" spc="-1" strike="noStrike">
                <a:solidFill>
                  <a:srgbClr val="ffff99"/>
                </a:solidFill>
                <a:latin typeface="Tahoma"/>
              </a:rPr>
              <a:t>Рим.3:21,28; Фил. 3:9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Ин.15:1-5;17:23; Рим.8:9-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5791320"/>
            <a:ext cx="92203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ccff"/>
                </a:solidFill>
                <a:latin typeface="Tahoma"/>
              </a:rPr>
              <a:t>	</a:t>
            </a: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Дава награда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Демонстрира     </a:t>
            </a:r>
            <a:r>
              <a:rPr b="0" lang="bg-BG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400" spc="-1" strike="noStrike">
                <a:solidFill>
                  <a:srgbClr val="ffff99"/>
                </a:solidFill>
                <a:latin typeface="Tahoma"/>
              </a:rPr>
              <a:t>Деян.13:39; Рим.3:28; Гал.2:16</a:t>
            </a:r>
            <a:r>
              <a:rPr b="0" lang="bg-BG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Мат.5:14-16;Ин.13:34,35; 14: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352680"/>
            <a:ext cx="922032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572000"/>
            <a:ext cx="922032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76320" y="5715000"/>
            <a:ext cx="9220320" cy="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0"/>
            <a:ext cx="8153280" cy="716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Tahoma"/>
              </a:rPr>
              <a:t>Централна тема —</a:t>
            </a:r>
            <a:r>
              <a:rPr b="1" lang="ru-RU" sz="36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99"/>
                </a:solidFill>
                <a:latin typeface="Tahoma"/>
              </a:rPr>
              <a:t>«в Христ</a:t>
            </a:r>
            <a:r>
              <a:rPr b="1" lang="bg-BG" sz="3600" spc="-1" strike="noStrike">
                <a:solidFill>
                  <a:srgbClr val="ffff99"/>
                </a:solidFill>
                <a:latin typeface="Tahoma"/>
              </a:rPr>
              <a:t>а</a:t>
            </a:r>
            <a:r>
              <a:rPr b="1" lang="ru-RU" sz="4000" spc="-1" strike="noStrike">
                <a:solidFill>
                  <a:srgbClr val="ffff99"/>
                </a:solidFill>
                <a:latin typeface="Times New Roman"/>
              </a:rPr>
              <a:t>»</a:t>
            </a:r>
            <a:r>
              <a:rPr b="1" lang="bg-BG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bg-BG" sz="2800" spc="-1" strike="noStrike">
                <a:solidFill>
                  <a:srgbClr val="ffffcc"/>
                </a:solidFill>
                <a:latin typeface="Tahoma"/>
              </a:rPr>
              <a:t>Благословен да бъде Бог и Отец                       на Нашия Господ  Исус  Христос,         Който </a:t>
            </a:r>
            <a:r>
              <a:rPr b="1" lang="bg-BG" sz="2800" spc="-1" strike="noStrike" u="sng">
                <a:solidFill>
                  <a:srgbClr val="ffff99"/>
                </a:solidFill>
                <a:uFillTx/>
                <a:latin typeface="Tahoma"/>
              </a:rPr>
              <a:t>в Христа</a:t>
            </a:r>
            <a:r>
              <a:rPr b="1" lang="bg-BG" sz="2800" spc="-1" strike="noStrike">
                <a:solidFill>
                  <a:srgbClr val="ffffcc"/>
                </a:solidFill>
                <a:latin typeface="Tahoma"/>
              </a:rPr>
              <a:t> ни е  благосло-                    вил с всяко духовно благосло-             вение в небесни места; като                       ни е избрал </a:t>
            </a:r>
            <a:r>
              <a:rPr b="1" lang="bg-BG" sz="2800" spc="-1" strike="noStrike" u="sng">
                <a:solidFill>
                  <a:srgbClr val="ffff99"/>
                </a:solidFill>
                <a:uFillTx/>
                <a:latin typeface="Tahoma"/>
              </a:rPr>
              <a:t>в Него</a:t>
            </a:r>
            <a:r>
              <a:rPr b="1" lang="bg-BG" sz="2800" spc="-1" strike="noStrike">
                <a:solidFill>
                  <a:srgbClr val="ffffcc"/>
                </a:solidFill>
                <a:latin typeface="Tahoma"/>
              </a:rPr>
              <a:t> преди                   създанието на света, за да                   бъдем святи и без недостатък                  пред Него в любов; като ни е       предопределил да Му бъдем                осиновени чрез Исуса Христа, по благоволението на Своята воля за         похвала на славната си благодат, с            която ни е обдарил </a:t>
            </a:r>
            <a:r>
              <a:rPr b="1" lang="bg-BG" sz="2800" spc="-1" strike="noStrike" u="sng">
                <a:solidFill>
                  <a:srgbClr val="ffff99"/>
                </a:solidFill>
                <a:uFillTx/>
                <a:latin typeface="Tahoma"/>
              </a:rPr>
              <a:t>във Възлюбения Си</a:t>
            </a:r>
            <a:r>
              <a:rPr b="1" lang="bg-BG" sz="2800" spc="-1" strike="noStrike">
                <a:solidFill>
                  <a:srgbClr val="ffffcc"/>
                </a:solidFill>
                <a:latin typeface="Tahoma"/>
              </a:rPr>
              <a:t>.</a:t>
            </a:r>
            <a:r>
              <a:rPr b="1" lang="bg-BG" sz="30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20120" y="6172200"/>
            <a:ext cx="1523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600" spc="-1" strike="noStrike">
                <a:solidFill>
                  <a:srgbClr val="ffccff"/>
                </a:solidFill>
                <a:latin typeface="Tahoma"/>
              </a:rPr>
              <a:t>Еф.1:3-6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981080" y="609480"/>
            <a:ext cx="41990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Римляни 8:9,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1405080"/>
            <a:ext cx="5181480" cy="5031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ие обаче, не сте плътски, а духовни, ако живее във вас Божият Дух …, ако </a:t>
            </a: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Христос е във вас,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то при все че тялото е мъртво поради греха, духът е жив поради правдата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447920" y="6541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оан 15: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314360"/>
            <a:ext cx="4800600" cy="6798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П</a:t>
            </a:r>
            <a:r>
              <a:rPr b="0" lang="bg-BG" sz="4000" spc="-1" strike="noStrike" u="sng">
                <a:solidFill>
                  <a:srgbClr val="ffffcc"/>
                </a:solidFill>
                <a:uFillTx/>
                <a:latin typeface="Tahoma"/>
              </a:rPr>
              <a:t>ребъдвайте в Мене и Аз във вас</a:t>
            </a:r>
            <a:r>
              <a:rPr b="0" lang="bg-BG" sz="4000" spc="-1" strike="noStrike" u="sng">
                <a:solidFill>
                  <a:srgbClr val="ffff66"/>
                </a:solidFill>
                <a:uFillTx/>
                <a:latin typeface="Tahoma"/>
              </a:rPr>
              <a:t>.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Както пръчката не може да даде плод от самосебе си, ако не остане на лозата, така и вие не можете, ако не пребъдвате в Мене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71600" y="593640"/>
            <a:ext cx="281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оан 15: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314360"/>
            <a:ext cx="4800600" cy="5579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з съм лозата, вие сте пръчките; който </a:t>
            </a:r>
            <a:r>
              <a:rPr b="0" lang="bg-BG" sz="4000" spc="-1" strike="noStrike" u="sng">
                <a:solidFill>
                  <a:srgbClr val="ffffcc"/>
                </a:solidFill>
                <a:uFillTx/>
                <a:latin typeface="Tahoma"/>
              </a:rPr>
              <a:t>пребъдва в Мене, и Аз в него,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той дава много плод; защото отделени от Мене, не можете да сторите нищ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533520" y="533520"/>
            <a:ext cx="8076960" cy="5814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Ключ</a:t>
            </a:r>
            <a:r>
              <a:rPr b="1" lang="bg-BG" sz="40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1" lang="bg-BG" sz="40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 м</a:t>
            </a:r>
            <a:r>
              <a:rPr b="1" lang="bg-BG" sz="40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сл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1. С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гласно Нов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ия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Завет, Евангелие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е безусловна Блага вест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з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спасени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е на цялот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човечеств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, подтв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ден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историческ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и чрез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рождени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ет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, жи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вот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и смърт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а н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Исус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Христос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i="1" lang="bg-BG" sz="4000" spc="-1" strike="noStrike">
                <a:solidFill>
                  <a:srgbClr val="ffffcc"/>
                </a:solidFill>
                <a:latin typeface="Tahoma"/>
              </a:rPr>
              <a:t>виж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 М</a:t>
            </a:r>
            <a:r>
              <a:rPr b="0" i="1" lang="bg-BG" sz="4000" spc="-1" strike="noStrike">
                <a:solidFill>
                  <a:srgbClr val="ffffcc"/>
                </a:solidFill>
                <a:latin typeface="Tahoma"/>
              </a:rPr>
              <a:t>ар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. 16:15; Рим. 1:1— 14; 10:13— 15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09480" y="797040"/>
            <a:ext cx="8001000" cy="61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2. 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Това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спасение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 ни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избавя от тр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тягостн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реалност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, с ко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 ние се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блъскваме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ка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гре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шни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чове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шки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щества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То ни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спас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ява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от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а) вин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ата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и наказани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ето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за грех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а -това е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наше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оправдание;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б) сил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ата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и р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бств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ото н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а греха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 - това е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наше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осв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щение;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) природ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ата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и присътстви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ето на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греха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 - това е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наше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прослав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не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3520" y="1523880"/>
            <a:ext cx="8076960" cy="4382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3. 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Тези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три с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ъставки на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спасени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ето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— оправдание, осв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щение и прослав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не 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са вече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и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п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лн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ен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 чрез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рождени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ето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, жи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вота,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см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рт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та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и в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ъз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кресени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ето на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нашия Господ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Исус Христ</a:t>
            </a:r>
            <a:r>
              <a:rPr b="0" lang="bg-BG" sz="4400" spc="-1" strike="noStrike">
                <a:solidFill>
                  <a:srgbClr val="ffffcc"/>
                </a:solidFill>
                <a:latin typeface="Tahoma"/>
              </a:rPr>
              <a:t>ос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3520" y="533520"/>
            <a:ext cx="8076960" cy="565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4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. Апостол Павел описва спасение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, ко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то Бог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 е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извършил за цялото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човечеств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чрез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служ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бата на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Исус Х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ристос 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наз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в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айки го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800" spc="-1" strike="noStrike">
                <a:solidFill>
                  <a:srgbClr val="ffff99"/>
                </a:solidFill>
                <a:latin typeface="Tahoma"/>
              </a:rPr>
              <a:t>«в</a:t>
            </a:r>
            <a:r>
              <a:rPr b="0" lang="bg-BG" sz="3800" spc="-1" strike="noStrike">
                <a:solidFill>
                  <a:srgbClr val="ffff99"/>
                </a:solidFill>
                <a:latin typeface="Tahoma"/>
              </a:rPr>
              <a:t>ие</a:t>
            </a:r>
            <a:r>
              <a:rPr b="0" lang="ru-RU" sz="3800" spc="-1" strike="noStrike">
                <a:solidFill>
                  <a:srgbClr val="ffff99"/>
                </a:solidFill>
                <a:latin typeface="Tahoma"/>
              </a:rPr>
              <a:t> в Христ</a:t>
            </a:r>
            <a:r>
              <a:rPr b="0" lang="bg-BG" sz="3800" spc="-1" strike="noStrike">
                <a:solidFill>
                  <a:srgbClr val="ffff99"/>
                </a:solidFill>
                <a:latin typeface="Tahoma"/>
              </a:rPr>
              <a:t>а</a:t>
            </a:r>
            <a:r>
              <a:rPr b="0" lang="ru-RU" sz="3800" spc="-1" strike="noStrike">
                <a:solidFill>
                  <a:srgbClr val="ffff99"/>
                </a:solidFill>
                <a:latin typeface="Tahoma"/>
              </a:rPr>
              <a:t>»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38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i="1" lang="bg-BG" sz="3800" spc="-1" strike="noStrike">
                <a:solidFill>
                  <a:srgbClr val="ffffcc"/>
                </a:solidFill>
                <a:latin typeface="Tahoma"/>
              </a:rPr>
              <a:t>виж</a:t>
            </a:r>
            <a:r>
              <a:rPr b="0" i="1" lang="ru-RU" sz="3800" spc="-1" strike="noStrike">
                <a:solidFill>
                  <a:srgbClr val="ffffcc"/>
                </a:solidFill>
                <a:latin typeface="Tahoma"/>
              </a:rPr>
              <a:t> 1 Кор. 1:30, 31; Еф. 1:3—6; 2:13; Ф</a:t>
            </a:r>
            <a:r>
              <a:rPr b="0" i="1" lang="bg-BG" sz="38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i="1" lang="ru-RU" sz="3800" spc="-1" strike="noStrike">
                <a:solidFill>
                  <a:srgbClr val="ffffcc"/>
                </a:solidFill>
                <a:latin typeface="Tahoma"/>
              </a:rPr>
              <a:t>л. 3:9).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Това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спасение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може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 също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да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б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ъде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наз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вано обективн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Евангелие, 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защото се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явя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обективн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ата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истин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, ос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ществен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в земн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ия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жи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вот на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 Исус </a:t>
            </a:r>
            <a:r>
              <a:rPr b="0" lang="bg-BG" sz="3800" spc="-1" strike="noStrike">
                <a:solidFill>
                  <a:srgbClr val="ffffcc"/>
                </a:solidFill>
                <a:latin typeface="Tahoma"/>
              </a:rPr>
              <a:t>Христос</a:t>
            </a: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457200"/>
            <a:ext cx="8001000" cy="643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5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. Апостол Павел описва спасение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, ко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о Бог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извършва в хорат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посредством Свят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ия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Дух, н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зовавайки г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99"/>
                </a:solidFill>
                <a:latin typeface="Tahoma"/>
              </a:rPr>
              <a:t>«Христос в</a:t>
            </a:r>
            <a:r>
              <a:rPr b="0" lang="bg-BG" sz="4000" spc="-1" strike="noStrike">
                <a:solidFill>
                  <a:srgbClr val="ffff99"/>
                </a:solidFill>
                <a:latin typeface="Tahoma"/>
              </a:rPr>
              <a:t>ъв</a:t>
            </a:r>
            <a:r>
              <a:rPr b="0" lang="ru-RU" sz="4000" spc="-1" strike="noStrike">
                <a:solidFill>
                  <a:srgbClr val="ffff99"/>
                </a:solidFill>
                <a:latin typeface="Tahoma"/>
              </a:rPr>
              <a:t> вас»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i="1" lang="bg-BG" sz="4000" spc="-1" strike="noStrike">
                <a:solidFill>
                  <a:srgbClr val="ffffcc"/>
                </a:solidFill>
                <a:latin typeface="Tahoma"/>
              </a:rPr>
              <a:t>виж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 Рим. 8:10; Гал. 2:20; Еф. 3:17).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може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също д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б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де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аз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вано -  субективн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Евангелие,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защото това, което Бог вече е извършил обективно за нас в Христа,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реално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с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осъществя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в нашия живо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09480" y="533520"/>
            <a:ext cx="7925040" cy="5943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6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. Обективно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Евангелие (вмене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праведност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н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Христа)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ни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да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право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за живот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на небе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—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сег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и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във времето н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д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7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. Субективно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Евангелие (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придаденат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праведност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н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Христа) не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ни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добавя прав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а з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а небе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;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доказва реално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прис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тствие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на 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вмен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енат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праведност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н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Христа в наш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ия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жи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вот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09480" y="914400"/>
            <a:ext cx="7772400" cy="350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8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. Библията учи, ч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е цялото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човечество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е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единено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заедно в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общ жи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вот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и 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затов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ставля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едно ц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ло или съвместно т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ждество — с</a:t>
            </a: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бирателно единство 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i="1" lang="bg-BG" sz="4000" spc="-1" strike="noStrike">
                <a:solidFill>
                  <a:srgbClr val="ffffcc"/>
                </a:solidFill>
                <a:latin typeface="Tahoma"/>
              </a:rPr>
              <a:t>виж</a:t>
            </a:r>
            <a:r>
              <a:rPr b="0" i="1" lang="ru-RU" sz="4000" spc="-1" strike="noStrike">
                <a:solidFill>
                  <a:srgbClr val="ffffcc"/>
                </a:solidFill>
                <a:latin typeface="Tahoma"/>
              </a:rPr>
              <a:t>. Евр. 6:20—7:28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257480"/>
            <a:ext cx="9144000" cy="4343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04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3124080" cy="682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Например, от</a:t>
            </a:r>
            <a:r>
              <a:rPr b="0" sz="2600" spc="-1" strike="noStrike">
                <a:solidFill>
                  <a:srgbClr val="ffffcc"/>
                </a:solidFill>
                <a:latin typeface="Tahoma"/>
              </a:rPr>
              <a:t> 17</a:t>
            </a: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 август 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д</a:t>
            </a: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0" sz="2600" spc="-1" strike="noStrike">
                <a:solidFill>
                  <a:srgbClr val="ffffcc"/>
                </a:solidFill>
                <a:latin typeface="Tahoma"/>
              </a:rPr>
              <a:t> 19</a:t>
            </a: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 дек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ември</a:t>
            </a:r>
            <a:r>
              <a:rPr b="0" sz="2600" spc="-1" strike="noStrike">
                <a:solidFill>
                  <a:srgbClr val="ffffcc"/>
                </a:solidFill>
                <a:latin typeface="Tahoma"/>
              </a:rPr>
              <a:t> 1874</a:t>
            </a: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 г. Урия Смит публик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у</a:t>
            </a: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вал сери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 стат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ии</a:t>
            </a: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 в 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списание</a:t>
            </a: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ffffcc"/>
                </a:solidFill>
                <a:latin typeface="Tahoma"/>
              </a:rPr>
              <a:t>«Review and Herald»</a:t>
            </a: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 под 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заглавие</a:t>
            </a: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: «В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д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щи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те</a:t>
            </a: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 доктрин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и на списание</a:t>
            </a: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2600" spc="-1" strike="noStrike">
                <a:solidFill>
                  <a:srgbClr val="ffffcc"/>
                </a:solidFill>
                <a:latin typeface="Tahoma"/>
              </a:rPr>
              <a:t>"Review"».</a:t>
            </a: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 Доктрина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та за</a:t>
            </a: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 оправдание чрез в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 не б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ла даже 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с</a:t>
            </a: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пом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0" lang="bg-BG" sz="26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en-US" sz="2600" spc="-1" strike="noStrike">
                <a:solidFill>
                  <a:srgbClr val="ffffcc"/>
                </a:solidFill>
                <a:latin typeface="Tahoma"/>
              </a:rPr>
              <a:t>та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57200" y="515880"/>
            <a:ext cx="8305920" cy="62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9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гласно Библ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Бог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ворил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цяло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човечество в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д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 човек — Адам. Ког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Адам п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днал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цяло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човечество п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д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ло «в н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г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»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ащото ние всички см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едине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 н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г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Ч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овечеств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ка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окупно ц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л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учас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л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 грехопаден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то н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Адам </a:t>
            </a: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i="1" lang="bg-BG" sz="3600" spc="-1" strike="noStrike">
                <a:solidFill>
                  <a:srgbClr val="ffffcc"/>
                </a:solidFill>
                <a:latin typeface="Tahoma"/>
              </a:rPr>
              <a:t>виж</a:t>
            </a: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 Рим. 5:12; 1 Кор. 15:21,22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10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 Подобн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на 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Библия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а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учи, ч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Бог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купил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цяло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човечество в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д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 човек, Исус Хрис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ос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втор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Адам </a:t>
            </a: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i="1" lang="bg-BG" sz="3600" spc="-1" strike="noStrike">
                <a:solidFill>
                  <a:srgbClr val="ffffcc"/>
                </a:solidFill>
                <a:latin typeface="Tahoma"/>
              </a:rPr>
              <a:t>виж</a:t>
            </a: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 Рим. 5:12—21; 1 Кор. 15:19—23; 45—49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609480"/>
            <a:ext cx="8153280" cy="6237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 При Сво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пл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щен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Исус пр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л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куп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ж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от на цели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чов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шк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род в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его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о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ад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ал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стоян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i="1" lang="bg-BG" sz="3600" spc="-1" strike="noStrike">
                <a:solidFill>
                  <a:srgbClr val="ffffcc"/>
                </a:solidFill>
                <a:latin typeface="Tahoma"/>
              </a:rPr>
              <a:t>виж</a:t>
            </a: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 1 Кор. 1:30)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 този акт цялот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човечество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 съ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д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н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о </a:t>
            </a:r>
            <a:r>
              <a:rPr b="0" lang="ru-RU" sz="3600" spc="-1" strike="noStrike">
                <a:solidFill>
                  <a:srgbClr val="ffff99"/>
                </a:solidFill>
                <a:latin typeface="Tahoma"/>
              </a:rPr>
              <a:t>«в Христ</a:t>
            </a: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99"/>
                </a:solidFill>
                <a:latin typeface="Tahoma"/>
              </a:rPr>
              <a:t> Исус</a:t>
            </a: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а</a:t>
            </a:r>
            <a:r>
              <a:rPr b="0" lang="ru-RU" sz="3600" spc="-1" strike="noStrike">
                <a:solidFill>
                  <a:srgbClr val="ffff99"/>
                </a:solidFill>
                <a:latin typeface="Tahoma"/>
              </a:rPr>
              <a:t>»</a:t>
            </a:r>
            <a:r>
              <a:rPr b="0" lang="bg-BG" sz="3600" spc="-1" strike="noStrike">
                <a:solidFill>
                  <a:srgbClr val="ffff99"/>
                </a:solidFill>
                <a:latin typeface="Tahoma"/>
              </a:rPr>
              <a:t>.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одобно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както с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явя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ам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едн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ц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ял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«в Адам»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,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така и това, което е извършил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Исус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е извършено и с нас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,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защото ние см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купно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с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ед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инени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в Не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го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Неговия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с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шен жи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вот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и см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р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се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приписват</a:t>
            </a:r>
            <a:r>
              <a:rPr b="0" lang="bg-BG" sz="3600" spc="-1" strike="noStrike">
                <a:solidFill>
                  <a:srgbClr val="ffffcc"/>
                </a:solidFill>
                <a:latin typeface="Tahoma"/>
              </a:rPr>
              <a:t> също и на нас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(</a:t>
            </a:r>
            <a:r>
              <a:rPr b="0" i="1" lang="bg-BG" sz="3600" spc="-1" strike="noStrike">
                <a:solidFill>
                  <a:srgbClr val="ffffcc"/>
                </a:solidFill>
                <a:latin typeface="Tahoma"/>
              </a:rPr>
              <a:t>виж</a:t>
            </a: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 Еф. 1:3—12; 2:4—7)</a:t>
            </a: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09480" y="609480"/>
            <a:ext cx="8077320" cy="822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1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. 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Ц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ентрална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та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тема —  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                                       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ru-RU" sz="4800" spc="-1" strike="noStrike">
                <a:solidFill>
                  <a:srgbClr val="ffff99"/>
                </a:solidFill>
                <a:latin typeface="Tahoma"/>
              </a:rPr>
              <a:t>«в Христ</a:t>
            </a:r>
            <a:r>
              <a:rPr b="1" lang="bg-BG" sz="4800" spc="-1" strike="noStrike">
                <a:solidFill>
                  <a:srgbClr val="ffff99"/>
                </a:solidFill>
                <a:latin typeface="Tahoma"/>
              </a:rPr>
              <a:t>а</a:t>
            </a:r>
            <a:r>
              <a:rPr b="1" lang="ru-RU" sz="4800" spc="-1" strike="noStrike">
                <a:solidFill>
                  <a:srgbClr val="ffff99"/>
                </a:solidFill>
                <a:latin typeface="Tahoma"/>
              </a:rPr>
              <a:t>»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                      е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основана на библейско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учение за солидарност или с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бирателно единств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о и се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явя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ва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централна тем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а и в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учения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та на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апостол Пав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л отнасящи се до 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    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Евангели</a:t>
            </a:r>
            <a:r>
              <a:rPr b="0" lang="bg-BG" sz="4800" spc="-1" strike="noStrike">
                <a:solidFill>
                  <a:srgbClr val="ffffcc"/>
                </a:solidFill>
                <a:latin typeface="Tahoma"/>
              </a:rPr>
              <a:t>ето</a:t>
            </a: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200400" y="68580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Колосяни 1:26,27</a:t>
            </a:r>
            <a:r>
              <a:rPr b="0" lang="bg-BG" sz="32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1600200"/>
            <a:ext cx="53341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Тайната, която е била скрита от векове и поколения, а сега се откри на Неговите светии; на които Божията воля беше да яви, какво е между езичниците богатството на славата в тая тайна, сиреч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bg-BG" sz="3200" spc="-1" strike="noStrike">
                <a:solidFill>
                  <a:srgbClr val="ffff99"/>
                </a:solidFill>
                <a:latin typeface="Tahoma"/>
              </a:rPr>
              <a:t>Христос във вас</a:t>
            </a:r>
            <a:r>
              <a:rPr b="0" lang="bg-BG" sz="3200" spc="-1" strike="noStrike">
                <a:solidFill>
                  <a:srgbClr val="ffff66"/>
                </a:solidFill>
                <a:latin typeface="Tahoma"/>
              </a:rPr>
              <a:t>,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 надеждата на слават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3412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486400" y="304920"/>
            <a:ext cx="3429000" cy="6887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Тр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год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ни по-късно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, в</a:t>
            </a:r>
            <a:r>
              <a:rPr b="0" sz="3200" spc="-1" strike="noStrike">
                <a:solidFill>
                  <a:srgbClr val="ffffcc"/>
                </a:solidFill>
                <a:latin typeface="Tahoma"/>
              </a:rPr>
              <a:t> 1877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г., Джеймс Уайт и Урия Смит основали «Библейски институт»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а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подготовк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а на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евангел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атори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. И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т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нов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н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що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не б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ло казано 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за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оправдани</a:t>
            </a:r>
            <a:r>
              <a:rPr b="0" lang="bg-BG" sz="3200" spc="-1" strike="noStrike">
                <a:solidFill>
                  <a:srgbClr val="ffffcc"/>
                </a:solidFill>
                <a:latin typeface="Tahoma"/>
              </a:rPr>
              <a:t>ето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 чрез</a:t>
            </a: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30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00400" y="0"/>
            <a:ext cx="59436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148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0" y="380880"/>
            <a:ext cx="4191120" cy="759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В след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ващата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,</a:t>
            </a:r>
            <a:r>
              <a:rPr b="0" sz="2400" spc="-1" strike="noStrike">
                <a:solidFill>
                  <a:srgbClr val="ffffcc"/>
                </a:solidFill>
                <a:latin typeface="Tahoma"/>
              </a:rPr>
              <a:t> 1878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г. Урия Смит публик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у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вал книг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под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заглавие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«Обзор </a:t>
            </a:r>
            <a:r>
              <a:rPr b="0" i="1" lang="bg-BG" sz="2400" spc="-1" strike="noStrike">
                <a:solidFill>
                  <a:srgbClr val="ffffcc"/>
                </a:solidFill>
                <a:latin typeface="Tahoma"/>
              </a:rPr>
              <a:t>на 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истин</a:t>
            </a:r>
            <a:r>
              <a:rPr b="0" i="1" lang="bg-BG" sz="2400" spc="-1" strike="noStrike">
                <a:solidFill>
                  <a:srgbClr val="ffffcc"/>
                </a:solidFill>
                <a:latin typeface="Tahoma"/>
              </a:rPr>
              <a:t>ата за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 настояще</a:t>
            </a:r>
            <a:r>
              <a:rPr b="0" i="1" lang="bg-BG" sz="24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 време».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Ни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то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на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една от</a:t>
            </a:r>
            <a:r>
              <a:rPr b="0" sz="2400" spc="-1" strike="noStrike">
                <a:solidFill>
                  <a:srgbClr val="ffffcc"/>
                </a:solidFill>
                <a:latin typeface="Tahoma"/>
              </a:rPr>
              <a:t> 336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страниц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и на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книг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ата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не б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ло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с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пом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на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то за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доктрината за 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оправдани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е чрез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в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я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р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, но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твърде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много б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ло казано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за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закон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а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. Не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 е за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у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чудване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, ч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Елена 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айт обвин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и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ла пионер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ите на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адвент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ното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движени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в излишн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о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увлечени</a:t>
            </a:r>
            <a:r>
              <a:rPr b="0" lang="bg-BG" sz="2400" spc="-1" strike="noStrike">
                <a:solidFill>
                  <a:srgbClr val="ffffcc"/>
                </a:solidFill>
                <a:latin typeface="Tahoma"/>
              </a:rPr>
              <a:t>е по</a:t>
            </a:r>
            <a:r>
              <a:rPr b="0" lang="en-US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sz="2400" spc="-1" strike="noStrike">
                <a:solidFill>
                  <a:srgbClr val="ffffcc"/>
                </a:solidFill>
                <a:latin typeface="Tahoma"/>
              </a:rPr>
              <a:t>«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тем</a:t>
            </a:r>
            <a:r>
              <a:rPr b="0" i="1" lang="bg-BG" sz="2400" spc="-1" strike="noStrike">
                <a:solidFill>
                  <a:srgbClr val="ffffcc"/>
                </a:solidFill>
                <a:latin typeface="Tahoma"/>
              </a:rPr>
              <a:t>ата на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 закона, </a:t>
            </a:r>
            <a:r>
              <a:rPr b="0" i="1" lang="bg-BG" sz="2400" spc="-1" strike="noStrike">
                <a:solidFill>
                  <a:srgbClr val="ffffcc"/>
                </a:solidFill>
                <a:latin typeface="Tahoma"/>
              </a:rPr>
              <a:t>докато не станахме толкова сухи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, ка</a:t>
            </a:r>
            <a:r>
              <a:rPr b="0" i="1" lang="bg-BG" sz="2400" spc="-1" strike="noStrike">
                <a:solidFill>
                  <a:srgbClr val="ffffcc"/>
                </a:solidFill>
                <a:latin typeface="Tahoma"/>
              </a:rPr>
              <a:t>то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 х</a:t>
            </a:r>
            <a:r>
              <a:rPr b="0" i="1" lang="bg-BG" sz="2400" spc="-1" strike="noStrike">
                <a:solidFill>
                  <a:srgbClr val="ffffcc"/>
                </a:solidFill>
                <a:latin typeface="Tahoma"/>
              </a:rPr>
              <a:t>ъ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лм</a:t>
            </a:r>
            <a:r>
              <a:rPr b="0" i="1" lang="bg-BG" sz="2400" spc="-1" strike="noStrike">
                <a:solidFill>
                  <a:srgbClr val="ffffcc"/>
                </a:solidFill>
                <a:latin typeface="Tahoma"/>
              </a:rPr>
              <a:t>овете на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 Гелву</a:t>
            </a:r>
            <a:r>
              <a:rPr b="0" i="1" lang="bg-BG" sz="2400" spc="-1" strike="noStrike">
                <a:solidFill>
                  <a:srgbClr val="ffffcc"/>
                </a:solidFill>
                <a:latin typeface="Tahoma"/>
              </a:rPr>
              <a:t>е</a:t>
            </a:r>
            <a:r>
              <a:rPr b="0" i="1" lang="en-US" sz="2400" spc="-1" strike="noStrike">
                <a:solidFill>
                  <a:srgbClr val="ffffcc"/>
                </a:solidFill>
                <a:latin typeface="Tahoma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343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2971800" y="1371600"/>
            <a:ext cx="373392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Изкупителната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cc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Божия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cc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Tahoma"/>
              </a:rPr>
              <a:t>любов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ff66"/>
                  </a:gs>
                  <a:gs pos="100000">
                    <a:srgbClr val="ffcc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Tahoma"/>
              <a:ea typeface="Tahom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016760" y="0"/>
            <a:ext cx="212724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2209680"/>
            <a:ext cx="2867040" cy="4648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1523880" y="2438280"/>
            <a:ext cx="58676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ahoma"/>
              </a:rPr>
              <a:t>Проблемъ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ahoma"/>
              <a:ea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ahoma"/>
              </a:rPr>
              <a:t>с грех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4403880"/>
            <a:ext cx="7772400" cy="7034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ffffcc"/>
                </a:solidFill>
                <a:latin typeface="Tahoma"/>
              </a:rPr>
              <a:t>       </a:t>
            </a:r>
            <a:r>
              <a:rPr b="0" lang="bg-BG" sz="4000" spc="-1" strike="noStrike">
                <a:solidFill>
                  <a:srgbClr val="ffff99"/>
                </a:solidFill>
                <a:latin typeface="Tahoma"/>
              </a:rPr>
              <a:t>КАКВО Е ТОВА ЕВАНГЕЛ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33520" y="762120"/>
            <a:ext cx="5105160" cy="308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ahoma"/>
              </a:rPr>
              <a:t>ЕYAГГЕЛ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ahoma"/>
              <a:ea typeface="Tahom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4T06:18:44Z</dcterms:created>
  <dc:creator>Petar Konstantinov</dc:creator>
  <dc:description/>
  <dc:language>en-US</dc:language>
  <cp:lastModifiedBy>zxy</cp:lastModifiedBy>
  <dcterms:modified xsi:type="dcterms:W3CDTF">2002-10-31T07:17:20Z</dcterms:modified>
  <cp:revision>26</cp:revision>
  <dc:subject/>
  <dc:title>PowerPoint Presentation</dc:title>
</cp:coreProperties>
</file>